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8BDF447-BB0F-4E95-86CA-9295339E0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EC6C88-C973-4D35-825B-C439EB3FC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E3B48B-E67E-4A70-9A4D-4F8A7BFE1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94E2BA9-14A4-40A1-8B60-B8F5EF97A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3ED1557-2709-4A66-B19C-E14FC43ED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0250634-9086-4430-8671-EEEE4D435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C9B5A5-83C3-4BEF-8C5A-DD7A231BA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9342B57-CDE2-4575-B190-69D93C95A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B60A3E2-9EA3-4BDE-8096-9485D18A0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FDF2B7-A34F-417D-97F9-C681E7976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ld have used positive coordinates if I see this 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18ADF4-D0D2-4A83-A10F-BE6FBA014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B00216-9BB0-4034-99AB-900CFB8F3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311684-763C-47F9-A5F0-F8BEB7C98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C7B6E7-23C2-412F-9F04-4822F257F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4DA2EA5-1446-4198-82B3-159400429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CC30F1B-F747-4511-93E0-81FD9C31C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5F3A6E-ACBF-46A2-9BC3-1FD05EDCC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81398C3-ADBC-4559-8B5C-B98AC7290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193862-A3F5-483E-8A5E-163564D72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4EDBA3D-FD04-47E5-901A-7F060501C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509B985-59B9-4F8F-9AE2-2DF4619AD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how different bu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CA4FD73-DDC5-46A4-B684-91EC95978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EB214BD-4FEC-47C8-9ADF-E00BD566F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E6B077-452A-4A65-A2BE-963F09A89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AF34CE-1AE0-47F3-988D-CA9D40230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 BLM 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59F094-EABE-479D-9D7D-84BAE8B16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B214A1-2AF8-41C7-B252-2662CBB97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C815E6-08D7-4DE2-8979-EDA46D61A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E114CD-C1A9-4FA0-B3EF-A9B44F600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59EA498-0A4D-49E2-981B-5D3A59B72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B152DC5-C22E-4EE0-929B-072C817FD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91B6461-4FBD-4E52-AC2A-C5856AF4D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FBAF56-8957-4E0B-9496-0ECB6FC95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9B8091-4BB6-466D-AEB6-AF53B5D73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2FABF87-C07D-4588-8B98-D60C4340D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F16-A442-4F41-8CD1-EDF5DF0C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359-A392-4D8C-A230-0B1E3C74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324-E2B1-4E6C-ADDC-5CC76933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F1D-1172-4F03-B61F-C0755A98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7A48-7C9D-46B9-90E6-52D037B3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9DAA-58E1-40A3-976B-900E2429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D8A5-18F2-404E-A00F-4500663A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BB4E-F6AF-4214-BF15-5F1F5C5F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6615-A921-4D5B-B1C1-82711B46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974C-2600-4C79-9824-564D26D4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D2A0-31FB-4A9D-9E9F-8786A340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2B6-B5EB-40F3-8AD8-1EAF70A0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BFBC-CEF7-4A27-9C77-4AC82E6A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8264-1B3A-45E4-A795-442A2E46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882D-9CBB-418D-B6D3-F5A62581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9400-D935-4846-B1F3-002D8EFF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62FA-C1E4-4F40-A15A-C02352D3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0ED-B0C9-40B6-8383-4A9FA7B7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28D-B447-45C2-AE6A-18D3ECD2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7B0-45E2-4FE3-B6C0-145D133F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65E-6E0D-49F8-8345-9C3A54C5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B65-0979-40EF-BA3C-C512DAA4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FC2-8113-4388-A759-17D60954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962-4B01-4ED3-A590-C72092EA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8679-9919-406C-A6D1-1078602EEB8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AINS_Globe_70smws"/>
          <p:cNvPicPr/>
          <p:nvPr/>
        </p:nvPicPr>
        <p:blipFill>
          <a:blip r:embed="rId2"/>
          <a:stretch/>
        </p:blipFill>
        <p:spPr>
          <a:xfrm>
            <a:off x="0" y="1066680"/>
            <a:ext cx="2637000" cy="495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Untitled-1"/>
          <p:cNvPicPr/>
          <p:nvPr/>
        </p:nvPicPr>
        <p:blipFill>
          <a:blip r:embed="rId3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CA94-F978-469F-B2CB-6AD3FD72641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69b"/>
                </a:solidFill>
                <a:latin typeface="Book Antiqua"/>
              </a:rPr>
              <a:t>         </a:t>
            </a:r>
            <a:r>
              <a:rPr b="1" lang="en-US" sz="4800" spc="-1" strike="noStrike">
                <a:solidFill>
                  <a:srgbClr val="0d469b"/>
                </a:solidFill>
                <a:latin typeface="Arial Unicode MS"/>
              </a:rPr>
              <a:t>Plenary 3</a:t>
            </a:r>
            <a:r>
              <a:rPr b="1" lang="en-US" sz="4800" spc="-1" strike="noStrike">
                <a:solidFill>
                  <a:srgbClr val="0d469b"/>
                </a:solidFill>
                <a:latin typeface="Book Antiqu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73000" y="213336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d469b"/>
                </a:solidFill>
                <a:latin typeface="Arial Unicode MS"/>
              </a:rPr>
              <a:t>Summer Institute</a:t>
            </a:r>
            <a:br>
              <a:rPr sz="4800"/>
            </a:br>
            <a:r>
              <a:rPr b="0" lang="en-CA" sz="4800" spc="-1" strike="noStrike">
                <a:solidFill>
                  <a:srgbClr val="0d469b"/>
                </a:solidFill>
                <a:latin typeface="Arial Unicode MS"/>
              </a:rPr>
              <a:t>2009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73000" y="39621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3352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In parallel tasks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57200" y="213372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 were looking at the same instructional goal, with the “problem”  (obstacle) removed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C756-B6D5-4232-B95F-1961E9C8DC4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Recall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57200" y="1523880"/>
            <a:ext cx="64771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money problem about Brandon and Alexis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 discussed difficulties students might hav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D982-3119-430D-A783-78108F67C59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095880" y="1600200"/>
            <a:ext cx="304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808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The problem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1752480"/>
            <a:ext cx="83059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2589-A4D8-4E48-8D8A-82CAFF78DF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8088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e could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09480" y="1523880"/>
            <a:ext cx="77979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vide alternate versions of the problem to make the problem more accessible without sacrificing “too much”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ight they b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0B3E-C794-4807-9B86-B838EC7588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808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A different example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80880" y="1676520"/>
            <a:ext cx="81028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ou pose this: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lope of a line is -2/3. Tell us the coordinates of two points on the lin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F4A6-DFFE-42C9-BDAB-615268AC28B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808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You could anticipate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1600200"/>
            <a:ext cx="82296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 students start with a point, go 2 to the right and 3 down OR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E048-36ED-4A97-B207-348AF23BF05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457200" y="340056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 students start with a point, go 3 to the left and 2 down OR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33520" y="46483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udents write y =-2/3 x + 8 and substitute two different values for x  but have trouble with the arithmetic OR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8088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You could anticipate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1676520"/>
            <a:ext cx="80265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at negative slopes cause trouble and recognize that some students need more time before they are ready for th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16BC-F472-47B0-945D-2F4F57B8CA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8088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Parallel tas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876920" y="1600200"/>
            <a:ext cx="3733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line of slope 2/3 goes through (-4,-1). What is the equa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02F4-0C10-4DA2-A103-457BDE2FB1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Text Box 3" descr=""/>
          <p:cNvPicPr/>
          <p:nvPr/>
        </p:nvPicPr>
        <p:blipFill>
          <a:blip r:embed="rId1"/>
          <a:stretch/>
        </p:blipFill>
        <p:spPr>
          <a:xfrm>
            <a:off x="755640" y="1670040"/>
            <a:ext cx="3743280" cy="418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4A55-4871-4E78-AF6E-2D014633DC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62120" y="2149560"/>
            <a:ext cx="77724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o you know which way your line slants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" y="7542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804A-C567-494D-91BD-69630C35AFC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762120" y="2149560"/>
            <a:ext cx="7772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uld (-4, 3) be on your line? How do you know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uld (-3, 0) be on your line? How do you know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45720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Differentiating instr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 will focus in this and our next few sessions on ways to differentiate instruction (not just differentiate practice)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F61C-EE37-4B8A-A270-057BA4AB3CD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201E-C34A-440C-A8EA-983FFAFF08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762120" y="2149560"/>
            <a:ext cx="77724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do you need to know to write the equa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can you get that informa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45720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F745-0436-4F7A-875A-21EB3CE23F7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762120" y="2149560"/>
            <a:ext cx="7772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is your equa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can you be sure you’re righ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380880" y="8380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9072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Typical ques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1F2C-1B63-4AC7-A69B-C1B307702B2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21495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sa : $1.15 in quarters and nick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38080" y="3429000"/>
            <a:ext cx="8305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my : $0.80 with half the quarters and twice the nick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many of each coin does Lisa hav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-45720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Parallel tas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31AD-CBFA-4CCB-82E7-C53716A1D5A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533520" y="1828800"/>
            <a:ext cx="8001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tion 1:  Use equations to model the problem and then solve i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tion 2: Solve the problem using only number thinking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98E9-F0CD-4224-B259-08036FEFD19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04920" y="1676520"/>
            <a:ext cx="86868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d you need to know how much each coin was worth or just the relationship between them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id you know that Amy had an even number of nickel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0492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83EF-B584-4F8F-8C1C-09D62B52002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62120" y="175248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uld you be sure that Amy had an even number of quarters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o you know that each girl had fewer than 5 quarter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45720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54F9-9A80-4E58-AD9D-5479663575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" y="214956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id you solve the problem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o you know your solution is correc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5228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ne more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3C99-7BFD-42B3-8BA8-F0A84B6EC1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57200" y="1600200"/>
            <a:ext cx="3657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add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o 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+8x+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029200" y="1600200"/>
            <a:ext cx="3809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multiply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o 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+8x+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0492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6D00-D201-49DD-A72D-3924513D35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algebra tiles show 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+8x+2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s there any other way to model that polynomial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F666-D6D8-4CC4-BF28-07FCCD479DE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28600" y="1523880"/>
            <a:ext cx="891540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id you arrange your tile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id you figure out how to star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s there any other way you could have arranged the tile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0948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DI requir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600200"/>
            <a:ext cx="90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focus on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big ideas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to have something big enough to differentiat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1898-98B7-4881-B834-4465BA13068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34290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prior assessment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to know the need to and direction to differentiat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50920" y="4727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hoic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to actually differentiat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-30492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Your tu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83C6-9BC5-4576-93D8-73D7E35AF09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762120" y="17524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 your group, choose one of the suggested sets of parallel tasks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velop some common consolidating question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-30492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Sh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27AF-CFAF-49E2-B9B2-EFB19DF8881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0880" y="1523880"/>
            <a:ext cx="80773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o to the one of the four corners with people who did your task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are your questions with a few people in your corne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-53352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nsoli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AE60-906A-49CC-B902-E4B7EFC1D9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762120" y="175248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reate a “flow chart” to show the steps you would take to create parallel tasks. Draw on chart pape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-68580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nsoli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F08D-9CDF-4E40-98A6-1F08D160738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762120" y="1752480"/>
            <a:ext cx="7696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uss at your tabl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of the steps would be hardest to do alon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nsoli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DF5F-3F04-4E6B-A900-C7B2B565DDC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62120" y="1752480"/>
            <a:ext cx="7696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ost your flowchar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rticipate in a gallery walk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0948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we do now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3520" y="16765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conventional approach to differentiating is to scaffold – presenting problems in bit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aybe this is not the only or the best way, to differentiat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7747-C743-4BF5-951C-62FDB9033AB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33520" y="8380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e could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33520" y="2057400"/>
            <a:ext cx="82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ink about what difficulties students have and actually plan to address these difficultie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3B42-C718-4824-B5F3-F7B86F87F5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04920" y="68580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Our focus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04920" y="1828800"/>
            <a:ext cx="9524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ll be on two strategies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arallel tas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54EF-D431-45F9-B78C-23654708D4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57200" y="838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e’ve used these befor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member the 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plenary’s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pen question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bout creating a pattern with a particular 3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erm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81E4-81ED-4A8F-93BF-F746FE8E768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533520" y="1828800"/>
            <a:ext cx="8229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member the 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plenary’s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parallel task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re you matched questions to big ideas but different groups used different question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6D2E-EB2D-4168-9202-F7DBDEEAF7F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57200" y="838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e’ve used these befor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685800" y="7621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Anticipated probl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09480" y="1828800"/>
            <a:ext cx="8153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y knowing that some grade 7-9 teachers might be uncomfortable with grade 11 or 12 content, we differentiated the task by creating that parallel task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BB73-408D-439B-B15E-FB62CD5ECA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4:10:23Z</dcterms:created>
  <dc:creator>Peel District School Board</dc:creator>
  <dc:description/>
  <dc:language>en-US</dc:language>
  <cp:lastModifiedBy>Rod_Anne_Yeager</cp:lastModifiedBy>
  <dcterms:modified xsi:type="dcterms:W3CDTF">2009-08-20T18:00:34Z</dcterms:modified>
  <cp:revision>28</cp:revision>
  <dc:subject/>
  <dc:title>Coaching for Math GAINS Professional Learning</dc:title>
</cp:coreProperties>
</file>